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7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D2C-DBD8-465C-B6C2-B6A7774B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9D5-FBEB-40A4-A8AA-DA627AB8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589-5079-4063-BB81-BB8E0B2E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FA5-EAF5-4C71-BF6D-181F669F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B20-1914-4256-B3BF-855EFAC2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6B9-6065-405A-8EE7-7E1EC9B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AF9-8C82-428A-B566-41DBBCD8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192-3B60-4B1F-B9C7-D75EAF65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D01-8FF3-4983-990D-C26ECB25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4C7-BEDA-424C-9FEE-54B2CE7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322-3604-43AB-9E9A-47B7908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3CA-EBB7-40FA-B478-0B61B9E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3F81-BBA1-457F-AD5D-DA25FBE39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IMG_0751.jpg"/>
          <p:cNvPicPr/>
          <p:nvPr/>
        </p:nvPicPr>
        <p:blipFill>
          <a:blip r:embed="rId2"/>
          <a:stretch/>
        </p:blipFill>
        <p:spPr>
          <a:xfrm>
            <a:off x="6072120" y="2786040"/>
            <a:ext cx="2840040" cy="37861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j0283649.gif"/>
          <p:cNvPicPr/>
          <p:nvPr/>
        </p:nvPicPr>
        <p:blipFill>
          <a:blip r:embed="rId3"/>
          <a:stretch/>
        </p:blipFill>
        <p:spPr>
          <a:xfrm>
            <a:off x="357120" y="0"/>
            <a:ext cx="1013040" cy="1393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8"/>
          <p:cNvSpPr/>
          <p:nvPr/>
        </p:nvSpPr>
        <p:spPr>
          <a:xfrm>
            <a:off x="2571840" y="14292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Mistral"/>
              </a:rPr>
              <a:t>УРОК ГЕОГРАФИИ В 8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-1470600" y="1500120"/>
            <a:ext cx="1221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Mistral"/>
              </a:rPr>
              <a:t>О КАРЕЛИИ С ЛЮБОВЬЮ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214200" y="4643280"/>
            <a:ext cx="614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istral"/>
              </a:rPr>
              <a:t>ЛЮДМИЛА ВЛАДИМИРОВНА ГИК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istral"/>
              </a:rPr>
              <a:t>УЧИТЕЛЬ ГЕОГРАФ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istral"/>
              </a:rPr>
              <a:t>ГБОУ СОШ №1376 с углубленным изучением естественных нау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istral"/>
              </a:rPr>
              <a:t>ЗАО Г.МОС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3dyingyoung.mp3" descr=""/>
          <p:cNvPicPr/>
          <p:nvPr/>
        </p:nvPicPr>
        <p:blipFill>
          <a:blip r:embed="rId4"/>
          <a:stretch/>
        </p:blipFill>
        <p:spPr>
          <a:xfrm>
            <a:off x="8501040" y="300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Mistral"/>
              </a:rPr>
              <a:t>КАРЕЛИЯ НАШИМИ ГЛАЗА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dolgo.mp3" descr=""/>
          <p:cNvPicPr/>
          <p:nvPr/>
        </p:nvPicPr>
        <p:blipFill>
          <a:blip r:embed="rId2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Незабываемое фото.bmp"/>
          <p:cNvPicPr/>
          <p:nvPr/>
        </p:nvPicPr>
        <p:blipFill>
          <a:blip r:embed="rId3"/>
          <a:stretch/>
        </p:blipFill>
        <p:spPr>
          <a:xfrm>
            <a:off x="523800" y="1000080"/>
            <a:ext cx="754848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istr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00040" y="1928880"/>
            <a:ext cx="70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stral"/>
              </a:rPr>
              <a:t>ПРЕДЛОЖИТЕ СВОЙ ИНДИВИДУАЛЬНЫЙ ТУР ПО КАРЕ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banner.jpg"/>
          <p:cNvPicPr/>
          <p:nvPr/>
        </p:nvPicPr>
        <p:blipFill>
          <a:blip r:embed="rId2"/>
          <a:stretch/>
        </p:blipFill>
        <p:spPr>
          <a:xfrm>
            <a:off x="428760" y="5286240"/>
            <a:ext cx="3360600" cy="121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2214720" y="285840"/>
            <a:ext cx="51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Mistral"/>
              </a:rPr>
              <a:t>СИНКВЕЙ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0" y="321480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stral"/>
              </a:rPr>
              <a:t>1.СУЩЕСТВИТЕЛЬНОЕ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stral"/>
              </a:rPr>
              <a:t>2.ДВА ГЛАГОЛА______    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stral"/>
              </a:rPr>
              <a:t>3.ТРИ ПРИЛАГАТЕЛЬНЫХ_____    _____   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stral"/>
              </a:rPr>
              <a:t>4.ПРЕДЛОЖЕНИЕ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istral"/>
              </a:rPr>
              <a:t>БОЛЬШОЕ ВСЕМ СПАСИБ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03333.gif"/>
          <p:cNvPicPr/>
          <p:nvPr/>
        </p:nvPicPr>
        <p:blipFill>
          <a:blip r:embed="rId2"/>
          <a:stretch/>
        </p:blipFill>
        <p:spPr>
          <a:xfrm>
            <a:off x="1785960" y="1214280"/>
            <a:ext cx="5572080" cy="5372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428760" y="57168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"КАЖДЫЙ ЧЕЛОВЕК ОБЯЗАН ЗНАТЬ СРЕДИ КАКОЙ КРАСОТЫ И КАКИХ НРАВСТВЕННЫХ ЦЕННОСТЕЙ ОН ЖИВЕТ" 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Д.С.ЛИХА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Фильм КАРЕЛИЯ.wmv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384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40" descr=""/>
          <p:cNvPicPr/>
          <p:nvPr/>
        </p:nvPicPr>
        <p:blipFill>
          <a:blip r:embed="rId2"/>
          <a:stretch/>
        </p:blipFill>
        <p:spPr>
          <a:xfrm>
            <a:off x="450720" y="768240"/>
            <a:ext cx="8242560" cy="5815080"/>
          </a:xfrm>
          <a:prstGeom prst="rect">
            <a:avLst/>
          </a:prstGeom>
          <a:ln w="0">
            <a:noFill/>
          </a:ln>
        </p:spPr>
      </p:pic>
      <p:pic>
        <p:nvPicPr>
          <p:cNvPr id="50" name="m02.mp3" descr=""/>
          <p:cNvPicPr/>
          <p:nvPr/>
        </p:nvPicPr>
        <p:blipFill>
          <a:blip r:embed="rId3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Mistral"/>
              </a:rPr>
              <a:t>ГЕОГРАФИЧЕСКОЕ</a:t>
            </a:r>
            <a:br>
              <a:rPr sz="4800"/>
            </a:br>
            <a:r>
              <a:rPr b="0" lang="en-US" sz="4800" spc="-1" strike="noStrike">
                <a:solidFill>
                  <a:srgbClr val="0000ff"/>
                </a:solidFill>
                <a:latin typeface="Mistral"/>
              </a:rPr>
              <a:t>  ПОЛОЖ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m02.mp3" descr=""/>
          <p:cNvPicPr/>
          <p:nvPr/>
        </p:nvPicPr>
        <p:blipFill>
          <a:blip r:embed="rId2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RF%20fiz%20%2090%2058%20%209%20500%20000.jpg"/>
          <p:cNvPicPr/>
          <p:nvPr/>
        </p:nvPicPr>
        <p:blipFill>
          <a:blip r:embed="rId3"/>
          <a:stretch/>
        </p:blipFill>
        <p:spPr>
          <a:xfrm>
            <a:off x="169920" y="1214280"/>
            <a:ext cx="8867880" cy="5143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map2.jpg"/>
          <p:cNvPicPr/>
          <p:nvPr/>
        </p:nvPicPr>
        <p:blipFill>
          <a:blip r:embed="rId4"/>
          <a:stretch/>
        </p:blipFill>
        <p:spPr>
          <a:xfrm>
            <a:off x="4514760" y="357120"/>
            <a:ext cx="4629240" cy="6240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Mistral"/>
              </a:rPr>
              <a:t>РЕЛЬЕ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2857680" y="1785960"/>
            <a:ext cx="37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istral"/>
              </a:rPr>
              <a:t>ВУЛКАН ГИРВ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02.mp3" descr=""/>
          <p:cNvPicPr/>
          <p:nvPr/>
        </p:nvPicPr>
        <p:blipFill>
          <a:blip r:embed="rId2"/>
          <a:stretch/>
        </p:blipFill>
        <p:spPr>
          <a:xfrm>
            <a:off x="8572680" y="3571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istral"/>
              </a:rPr>
              <a:t>КЛИМА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714240" y="38577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stral"/>
              </a:rPr>
              <a:t>1.В КАКОМ КЛИМАТИЧЕСКОМ ПОЯСЕ НАХОДИТСЯ КАРЕЛ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067920" y="357120"/>
            <a:ext cx="578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istral"/>
              </a:rPr>
              <a:t>ИСПОЛЬЗУЯ КАРТУ АТЛА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istral"/>
              </a:rPr>
              <a:t>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3571920" y="471492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istral"/>
              </a:rPr>
              <a:t>2.ОПРЕДЕЛИТЬ ПРЕОБЛАДАЮЩЕЕ </a:t>
            </a:r>
            <a:r>
              <a:rPr b="0" lang="en-US" sz="2800" spc="-1" strike="noStrike">
                <a:solidFill>
                  <a:srgbClr val="ffff00"/>
                </a:solidFill>
                <a:latin typeface="Mistral"/>
              </a:rPr>
              <a:t>НАПРАВЛЕНИЕ</a:t>
            </a:r>
            <a:r>
              <a:rPr b="0" lang="en-US" sz="2400" spc="-1" strike="noStrike">
                <a:solidFill>
                  <a:srgbClr val="ffff00"/>
                </a:solidFill>
                <a:latin typeface="Mistr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stral"/>
              </a:rPr>
              <a:t>ВОЗДУШНЫХ МАСС ЛЕТОМ И З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Mistral"/>
              </a:rPr>
              <a:t>ЖИВОТНЫЙ МИР</a:t>
            </a:r>
            <a:r>
              <a:rPr b="0" lang="en-US" sz="4800" spc="-1" strike="noStrike">
                <a:solidFill>
                  <a:srgbClr val="00ff00"/>
                </a:solidFill>
                <a:latin typeface="Mistral"/>
              </a:rPr>
              <a:t> </a:t>
            </a:r>
            <a:r>
              <a:rPr b="0" lang="ru-RU" sz="4800" spc="-1" strike="noStrike">
                <a:solidFill>
                  <a:srgbClr val="00ff00"/>
                </a:solidFill>
                <a:latin typeface="Mistral"/>
              </a:rPr>
              <a:t>КАРЕЛ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Фильм ЗООМИР КАРЕЛИИ.wmv" descr=""/>
          <p:cNvPicPr/>
          <p:nvPr/>
        </p:nvPicPr>
        <p:blipFill>
          <a:blip r:embed="rId2"/>
          <a:stretch/>
        </p:blipFill>
        <p:spPr>
          <a:xfrm>
            <a:off x="1000080" y="12142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Mistral"/>
              </a:rPr>
              <a:t>КРАЙ ОЗЕ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-145800" y="35712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tral"/>
              </a:rPr>
              <a:t>27 ТЫСЯЧ Р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6357960" y="428760"/>
            <a:ext cx="24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tral"/>
              </a:rPr>
              <a:t>60 ТЫСЯЧ ОЗ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ong2.mp3" descr=""/>
          <p:cNvPicPr/>
          <p:nvPr/>
        </p:nvPicPr>
        <p:blipFill>
          <a:blip r:embed="rId2"/>
          <a:stretch/>
        </p:blipFill>
        <p:spPr>
          <a:xfrm>
            <a:off x="8215200" y="621504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28760" y="1214280"/>
          <a:ext cx="8286480" cy="5357880"/>
        </p:xfrm>
        <a:graphic>
          <a:graphicData uri="http://schemas.openxmlformats.org/drawingml/2006/table">
            <a:tbl>
              <a:tblPr/>
              <a:tblGrid>
                <a:gridCol w="1071360"/>
                <a:gridCol w="3357720"/>
                <a:gridCol w="1928880"/>
                <a:gridCol w="1928520"/>
              </a:tblGrid>
              <a:tr h="554040">
                <a:tc rowSpan="2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Призна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с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Оз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Ладож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Онеж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980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исхожд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з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Ледников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тектон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Ледниково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тектон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581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ъем 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0 км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03 км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96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ксим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луб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52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6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808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стров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slow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6:48:37Z</dcterms:created>
  <dc:creator>цо1473</dc:creator>
  <dc:description/>
  <dc:language>en-US</dc:language>
  <cp:lastModifiedBy>Vlad</cp:lastModifiedBy>
  <dcterms:modified xsi:type="dcterms:W3CDTF">2014-04-02T20:43:45Z</dcterms:modified>
  <cp:revision>66</cp:revision>
  <dc:subject/>
  <dc:title>Слайд 1</dc:title>
</cp:coreProperties>
</file>